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08E0-1784-487C-90DE-6DCF7A94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6F1-3323-4501-A1DF-8E127763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F739-B7D0-44F6-8A17-62E792BB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D81-37F9-4356-ADB1-FE0D450D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217E-66AD-48AD-A688-98497FD5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138E-1745-4657-967F-9CA25C5D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2DD8-A2C2-464A-8F2E-EB53BE25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AF32-CFF8-4E8B-8E3A-4B9242F8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9A44-D090-4882-A1B8-01567356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318B-2C77-48EB-A809-DCFA32E5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B150-37D0-495C-8C3F-16546DE7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8AB7-01F7-4573-B981-F210026C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878F-589E-48D6-8E4F-D9598DB1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39A9-68B3-4141-BCA9-5DDD4AD0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34BB-D48D-462B-BFF5-C2444E9C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F86D-B629-4496-927B-F4F56D34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532E-9EA3-4A7F-AA36-17B5D0DD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25A-1CAE-41CB-A65F-ADB6C9DB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EE4A-0382-442D-BE4B-59620311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B29-3392-4F8E-9F3F-CDCB92EF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A04F-6A26-4E44-941A-A35337C2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B8ED-1365-482C-AD4A-CBECDAF1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5768-2714-43A1-8751-A7C4786E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0457-02C7-4EC0-A0C8-4DACA20D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0A4D-A61A-4E93-B513-7855D6FE63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91A0-437B-4BD3-905B-69E1E5A9D4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T-RAM Gene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nurag Nig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it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56386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“1”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L =0 SL=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“0”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L=1 SL=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80880" y="1841400"/>
            <a:ext cx="8229600" cy="3276720"/>
            <a:chOff x="380880" y="1841400"/>
            <a:chExt cx="8229600" cy="327672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380880" y="1841400"/>
              <a:ext cx="806796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067360" y="1942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18320" y="39369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67280" y="3213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96080" y="41274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nse amplifier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09480" y="1828800"/>
            <a:ext cx="7086600" cy="4724280"/>
            <a:chOff x="609480" y="1828800"/>
            <a:chExt cx="7086600" cy="4724280"/>
          </a:xfrm>
        </p:grpSpPr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609480" y="1828800"/>
              <a:ext cx="70866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914400" y="5791320"/>
              <a:ext cx="12193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est bit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600200" y="510516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V characteristic of MT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5562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states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stance is a fun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1814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4419720" y="2502000"/>
            <a:ext cx="533160" cy="1091520"/>
            <a:chOff x="4419720" y="2502000"/>
            <a:chExt cx="533160" cy="1091520"/>
          </a:xfrm>
        </p:grpSpPr>
        <p:sp>
          <p:nvSpPr>
            <p:cNvPr id="267" name=""/>
            <p:cNvSpPr/>
            <p:nvPr/>
          </p:nvSpPr>
          <p:spPr>
            <a:xfrm>
              <a:off x="4419720" y="250200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19720" y="318780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ematic autom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f-cell schematic cre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cells – Manual (using current/voltage sourc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rs – Sk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se amp. Timing block, Write driver –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array cre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Kb array - Sk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ematic auto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(Create7to128DecoderSchematic(libname,cellname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(CreateWriteDrSchematic(libname,cellname,C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Arr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(CreateSTTRAMSchematic(libname,cellname,R,C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Kb STT-RAM arr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1905120"/>
            <a:ext cx="8077320" cy="4647960"/>
            <a:chOff x="457200" y="1905120"/>
            <a:chExt cx="8077320" cy="464796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457200" y="1905120"/>
              <a:ext cx="807732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752480" y="438156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iming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14800" y="228600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28 x 8 arr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81560" y="35812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rite 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81280" y="502920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 amplif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 and Write 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04920" y="2146320"/>
            <a:ext cx="8381880" cy="4495680"/>
            <a:chOff x="304920" y="2146320"/>
            <a:chExt cx="8381880" cy="4495680"/>
          </a:xfrm>
        </p:grpSpPr>
        <p:graphicFrame>
          <p:nvGraphicFramePr>
            <p:cNvPr id="282" name=""/>
            <p:cNvGraphicFramePr/>
            <p:nvPr/>
          </p:nvGraphicFramePr>
          <p:xfrm>
            <a:off x="304920" y="2146320"/>
            <a:ext cx="807696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146320"/>
                      <a:ext cx="807696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990720" y="42210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24080" y="45673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ata&lt;0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67480" y="4497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ut&lt;0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2120" y="26305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rite “1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95480" y="25606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ad “1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05520" y="25606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rite “0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38880" y="256068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ad ”0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447920" y="4290840"/>
              <a:ext cx="30456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971440" y="4913280"/>
              <a:ext cx="22860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7467120" y="4359240"/>
              <a:ext cx="2286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iver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T-RAM bit-cell SPI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ill script to generate complete functional STT-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-specific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ing bit-cell model in 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ill script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990720" y="2590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s for your time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814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llenges in SRA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Lea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volatile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1981080"/>
            <a:ext cx="5540400" cy="3657600"/>
            <a:chOff x="0" y="1981080"/>
            <a:chExt cx="5540400" cy="3657600"/>
          </a:xfrm>
        </p:grpSpPr>
        <p:sp>
          <p:nvSpPr>
            <p:cNvPr id="104" name=""/>
            <p:cNvSpPr/>
            <p:nvPr/>
          </p:nvSpPr>
          <p:spPr>
            <a:xfrm>
              <a:off x="5356080" y="288756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0" y="1981080"/>
              <a:ext cx="49528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905120" y="35812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eakage curr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980720" y="3962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133720" y="3962520"/>
              <a:ext cx="4572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mory Technology Compari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945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T-RAM bit cell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066680" y="2057400"/>
            <a:ext cx="1752120" cy="3199680"/>
            <a:chOff x="1066680" y="2057400"/>
            <a:chExt cx="1752120" cy="3199680"/>
          </a:xfrm>
        </p:grpSpPr>
        <p:grpSp>
          <p:nvGrpSpPr>
            <p:cNvPr id="113" name=""/>
            <p:cNvGrpSpPr/>
            <p:nvPr/>
          </p:nvGrpSpPr>
          <p:grpSpPr>
            <a:xfrm>
              <a:off x="1369440" y="3707640"/>
              <a:ext cx="643320" cy="1418760"/>
              <a:chOff x="1369440" y="3707640"/>
              <a:chExt cx="643320" cy="14187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10960" y="3707640"/>
                <a:ext cx="0" cy="45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1659240" y="4153320"/>
                <a:ext cx="35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4360" y="4166280"/>
                <a:ext cx="0" cy="51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680480" y="4673880"/>
                <a:ext cx="32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03400" y="4667760"/>
                <a:ext cx="0" cy="45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1369440" y="4416120"/>
                <a:ext cx="16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537560" y="4151880"/>
                <a:ext cx="60120" cy="522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1642320" y="2801880"/>
              <a:ext cx="719280" cy="862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T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42640" y="2057400"/>
              <a:ext cx="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4058280"/>
              <a:ext cx="7491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04760" y="4765680"/>
              <a:ext cx="7840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61640" y="2057400"/>
              <a:ext cx="8571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352680" y="2514600"/>
            <a:ext cx="4667400" cy="1391760"/>
            <a:chOff x="3352680" y="2514600"/>
            <a:chExt cx="4667400" cy="1391760"/>
          </a:xfrm>
        </p:grpSpPr>
        <p:grpSp>
          <p:nvGrpSpPr>
            <p:cNvPr id="127" name=""/>
            <p:cNvGrpSpPr/>
            <p:nvPr/>
          </p:nvGrpSpPr>
          <p:grpSpPr>
            <a:xfrm>
              <a:off x="3352680" y="2514600"/>
              <a:ext cx="2196720" cy="1391760"/>
              <a:chOff x="3352680" y="2514600"/>
              <a:chExt cx="2196720" cy="1391760"/>
            </a:xfrm>
          </p:grpSpPr>
          <p:sp>
            <p:nvSpPr>
              <p:cNvPr id="128" name=""/>
              <p:cNvSpPr/>
              <p:nvPr/>
            </p:nvSpPr>
            <p:spPr>
              <a:xfrm>
                <a:off x="3352680" y="2514600"/>
                <a:ext cx="2196720" cy="541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52680" y="3055680"/>
                <a:ext cx="2196720" cy="3092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52680" y="3364920"/>
                <a:ext cx="2196720" cy="541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808440" y="280836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8440" y="352260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808440" y="378612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24560" y="3102120"/>
              <a:ext cx="22302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ide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38600" y="3492360"/>
              <a:ext cx="24735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ee Ferro magnetic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03640" y="3395520"/>
              <a:ext cx="907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2680" y="3564000"/>
              <a:ext cx="771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46520" y="2666880"/>
              <a:ext cx="24735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rd Ferro magnetic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200400" y="4114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5181480"/>
            <a:ext cx="4648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MT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access trans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t-cell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T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f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paramete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havioral current sou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to solve differential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solve differential equation 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pacitor current eq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C dV/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971800" y="2286000"/>
            <a:ext cx="3199680" cy="1979640"/>
            <a:chOff x="2971800" y="2286000"/>
            <a:chExt cx="3199680" cy="1979640"/>
          </a:xfrm>
        </p:grpSpPr>
        <p:grpSp>
          <p:nvGrpSpPr>
            <p:cNvPr id="146" name=""/>
            <p:cNvGrpSpPr/>
            <p:nvPr/>
          </p:nvGrpSpPr>
          <p:grpSpPr>
            <a:xfrm>
              <a:off x="3384720" y="2776320"/>
              <a:ext cx="1685160" cy="1489320"/>
              <a:chOff x="3384720" y="2776320"/>
              <a:chExt cx="1685160" cy="1489320"/>
            </a:xfrm>
          </p:grpSpPr>
          <p:sp>
            <p:nvSpPr>
              <p:cNvPr id="147" name=""/>
              <p:cNvSpPr/>
              <p:nvPr/>
            </p:nvSpPr>
            <p:spPr>
              <a:xfrm>
                <a:off x="4141440" y="2776320"/>
                <a:ext cx="72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4760640" y="3708000"/>
                <a:ext cx="205560" cy="557640"/>
                <a:chOff x="4760640" y="3708000"/>
                <a:chExt cx="205560" cy="557640"/>
              </a:xfrm>
            </p:grpSpPr>
            <p:sp>
              <p:nvSpPr>
                <p:cNvPr id="149" name=""/>
                <p:cNvSpPr/>
                <p:nvPr/>
              </p:nvSpPr>
              <p:spPr>
                <a:xfrm flipV="1">
                  <a:off x="4760640" y="3893400"/>
                  <a:ext cx="205560" cy="372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4863240" y="3708000"/>
                  <a:ext cx="0" cy="37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4657320" y="3521520"/>
                <a:ext cx="412560" cy="18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57320" y="3149280"/>
                <a:ext cx="412560" cy="18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63600" y="2776320"/>
                <a:ext cx="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3384720" y="3109680"/>
                <a:ext cx="515880" cy="587520"/>
                <a:chOff x="3384720" y="3109680"/>
                <a:chExt cx="515880" cy="5875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384720" y="3109680"/>
                  <a:ext cx="515880" cy="587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3625560" y="3109680"/>
                  <a:ext cx="0" cy="509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 flipH="1">
                <a:off x="3608280" y="2776320"/>
                <a:ext cx="55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608280" y="2776320"/>
                <a:ext cx="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3539520" y="3708000"/>
                <a:ext cx="205560" cy="557640"/>
                <a:chOff x="3539520" y="3708000"/>
                <a:chExt cx="205560" cy="557640"/>
              </a:xfrm>
            </p:grpSpPr>
            <p:sp>
              <p:nvSpPr>
                <p:cNvPr id="160" name=""/>
                <p:cNvSpPr/>
                <p:nvPr/>
              </p:nvSpPr>
              <p:spPr>
                <a:xfrm flipV="1">
                  <a:off x="3539520" y="3893400"/>
                  <a:ext cx="205560" cy="372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3642120" y="3708000"/>
                  <a:ext cx="0" cy="37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"/>
            <p:cNvSpPr/>
            <p:nvPr/>
          </p:nvSpPr>
          <p:spPr>
            <a:xfrm>
              <a:off x="2971800" y="308988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42680" y="312912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86640" y="228600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72000" y="4952880"/>
                <a:ext cx="228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3657600" y="51814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t-cell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61214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iting CDF parameter to create behavioral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0" y="1714680"/>
            <a:ext cx="8316720" cy="4285080"/>
            <a:chOff x="0" y="1714680"/>
            <a:chExt cx="8316720" cy="4285080"/>
          </a:xfrm>
        </p:grpSpPr>
        <p:graphicFrame>
          <p:nvGraphicFramePr>
            <p:cNvPr id="171" name=""/>
            <p:cNvGraphicFramePr/>
            <p:nvPr/>
          </p:nvGraphicFramePr>
          <p:xfrm>
            <a:off x="0" y="1866960"/>
            <a:ext cx="4495680" cy="266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866960"/>
                      <a:ext cx="4495680" cy="266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" name=""/>
            <p:cNvSpPr/>
            <p:nvPr/>
          </p:nvSpPr>
          <p:spPr>
            <a:xfrm>
              <a:off x="75960" y="3391200"/>
              <a:ext cx="12956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09480" y="3848400"/>
              <a:ext cx="152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960" y="529596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onentName = isour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6" name=""/>
            <p:cNvGraphicFramePr/>
            <p:nvPr/>
          </p:nvGraphicFramePr>
          <p:xfrm>
            <a:off x="5715000" y="1714680"/>
            <a:ext cx="2601720" cy="3581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15000" y="1714680"/>
                      <a:ext cx="2601720" cy="35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" name=""/>
            <p:cNvSpPr/>
            <p:nvPr/>
          </p:nvSpPr>
          <p:spPr>
            <a:xfrm>
              <a:off x="5638680" y="3467160"/>
              <a:ext cx="19810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095880" y="3924000"/>
              <a:ext cx="3808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10080" y="56008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 = f(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24280" y="308628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t-cell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76240" y="1841400"/>
            <a:ext cx="2667240" cy="3886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15560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911760" y="1816200"/>
            <a:ext cx="4647960" cy="4726800"/>
            <a:chOff x="3911760" y="1816200"/>
            <a:chExt cx="4647960" cy="4726800"/>
          </a:xfrm>
        </p:grpSpPr>
        <p:graphicFrame>
          <p:nvGraphicFramePr>
            <p:cNvPr id="186" name=""/>
            <p:cNvGraphicFramePr/>
            <p:nvPr/>
          </p:nvGraphicFramePr>
          <p:xfrm>
            <a:off x="3911760" y="1816200"/>
            <a:ext cx="3962160" cy="4063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11760" y="1816200"/>
                      <a:ext cx="3962160" cy="406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"/>
            <p:cNvSpPr/>
            <p:nvPr/>
          </p:nvSpPr>
          <p:spPr>
            <a:xfrm>
              <a:off x="4521240" y="60832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rite “1” Op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78440" y="23493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435640" y="2120400"/>
              <a:ext cx="38088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59520" y="2425680"/>
              <a:ext cx="16002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L=0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L=1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54760" y="44830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wit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69160" y="3720960"/>
              <a:ext cx="1522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mory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28600" y="2057400"/>
            <a:ext cx="8686800" cy="4495680"/>
            <a:chOff x="228600" y="2057400"/>
            <a:chExt cx="8686800" cy="4495680"/>
          </a:xfrm>
        </p:grpSpPr>
        <p:grpSp>
          <p:nvGrpSpPr>
            <p:cNvPr id="196" name=""/>
            <p:cNvGrpSpPr/>
            <p:nvPr/>
          </p:nvGrpSpPr>
          <p:grpSpPr>
            <a:xfrm>
              <a:off x="1371600" y="2057400"/>
              <a:ext cx="6324840" cy="4495680"/>
              <a:chOff x="1371600" y="2057400"/>
              <a:chExt cx="6324840" cy="44956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1397160" y="2744280"/>
                <a:ext cx="5613480" cy="3574440"/>
                <a:chOff x="1397160" y="2744280"/>
                <a:chExt cx="5613480" cy="3574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057400" y="3263040"/>
                  <a:ext cx="1524240" cy="81144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029200" y="2763720"/>
                  <a:ext cx="1981440" cy="37440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029200" y="3263040"/>
                  <a:ext cx="1981440" cy="218484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029200" y="5573160"/>
                  <a:ext cx="1981440" cy="37440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8164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581640" y="3887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038840" y="5865840"/>
                  <a:ext cx="9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257800" y="2764800"/>
                  <a:ext cx="1600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rite Dri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443320" y="3469680"/>
                  <a:ext cx="7621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iming 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181840" y="5635440"/>
                  <a:ext cx="1600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nsing 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639040" y="4012200"/>
                  <a:ext cx="7617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mory Ar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867640" y="5448240"/>
                  <a:ext cx="228600" cy="1249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867640" y="3138120"/>
                  <a:ext cx="228600" cy="1245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14800" y="3368160"/>
                  <a:ext cx="914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Le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38840" y="5814000"/>
                  <a:ext cx="914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Ae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524240" y="3180960"/>
                  <a:ext cx="433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LK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886200" y="2825640"/>
                  <a:ext cx="1143000" cy="62280"/>
                </a:xfrm>
                <a:prstGeom prst="rightArrow">
                  <a:avLst>
                    <a:gd name="adj1" fmla="val 50000"/>
                    <a:gd name="adj2" fmla="val 458815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332160" y="2744280"/>
                  <a:ext cx="609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ata I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867640" y="5947920"/>
                  <a:ext cx="228600" cy="1245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651640" y="6072480"/>
                  <a:ext cx="762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ata Ou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447920" y="343080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447920" y="367020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447920" y="3462120"/>
                  <a:ext cx="433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/W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397160" y="3722400"/>
                  <a:ext cx="609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DD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447920" y="3909600"/>
                  <a:ext cx="609480" cy="124560"/>
                </a:xfrm>
                <a:prstGeom prst="rightArrow">
                  <a:avLst>
                    <a:gd name="adj1" fmla="val 50000"/>
                    <a:gd name="adj2" fmla="val 122327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581640" y="3555720"/>
                  <a:ext cx="1447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581640" y="37429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038840" y="3867840"/>
                  <a:ext cx="0" cy="199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267440" y="574092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267440" y="3742920"/>
                  <a:ext cx="0" cy="199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496040" y="5616000"/>
                  <a:ext cx="5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581640" y="36180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496040" y="3618000"/>
                  <a:ext cx="0" cy="199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343400" y="305604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343400" y="2868840"/>
                  <a:ext cx="433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/W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496040" y="5366520"/>
                  <a:ext cx="433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267440" y="5574240"/>
                  <a:ext cx="609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L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71600" y="2057400"/>
                <a:ext cx="0" cy="449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71600" y="2057400"/>
                <a:ext cx="6324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696440" y="2057400"/>
                <a:ext cx="0" cy="449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71600" y="6553080"/>
                <a:ext cx="6324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304920" y="37432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920" y="3119040"/>
              <a:ext cx="1066680" cy="124560"/>
            </a:xfrm>
            <a:prstGeom prst="rightArrow">
              <a:avLst>
                <a:gd name="adj1" fmla="val 50000"/>
                <a:gd name="adj2" fmla="val 21409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4920" y="4804920"/>
              <a:ext cx="1066680" cy="124560"/>
            </a:xfrm>
            <a:prstGeom prst="rightArrow">
              <a:avLst>
                <a:gd name="adj1" fmla="val 50000"/>
                <a:gd name="adj2" fmla="val 21409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920" y="43675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8600" y="28065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4600" y="346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4920" y="40554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’/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4920" y="44924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96440" y="3868200"/>
              <a:ext cx="761760" cy="249480"/>
            </a:xfrm>
            <a:prstGeom prst="rightArrow">
              <a:avLst>
                <a:gd name="adj1" fmla="val 50000"/>
                <a:gd name="adj2" fmla="val 76335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96440" y="343116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57600" y="21823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T-RAM Mac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4:37:53Z</dcterms:created>
  <dc:creator>uva</dc:creator>
  <dc:description/>
  <dc:language>en-US</dc:language>
  <cp:lastModifiedBy>anurag</cp:lastModifiedBy>
  <dcterms:modified xsi:type="dcterms:W3CDTF">2010-05-07T17:54:32Z</dcterms:modified>
  <cp:revision>39</cp:revision>
  <dc:subject/>
  <dc:title>SRAM Generator</dc:title>
</cp:coreProperties>
</file>